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160-B2F4-4DE0-B28A-76D46CB2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C74-0C9B-42E1-BE1D-E452038A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D15-62FA-4735-9B11-F4FB9CC9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B6B-0D73-45AB-97CE-A8190E9C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138-4FB2-40DC-965D-3191C744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7F3-AB83-4814-89ED-3F953C73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D4F-8F3C-482F-BCC5-72C19F64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144-ECEE-4AFB-863C-3BC1F916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08C-8271-4108-909C-9E2A30D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21D-9599-45B5-8EA6-DED9EEA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22A-1123-494E-B51E-B673A51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33B-6EBA-4A00-AD5C-02C9EB38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58EF-92E9-4725-92A3-BD2F8526FE8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85808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00000"/>
                </a:solidFill>
                <a:latin typeface="Comic Sans MS"/>
              </a:rPr>
              <a:t>Let’s get ready to rumble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bfbfbf"/>
                </a:solidFill>
                <a:latin typeface="Comic Sans MS"/>
              </a:rPr>
              <a:t>Crocs and Din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ock Jams - Lets Get Ready To Rumble.mp3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0" spc="-1" strike="noStrike">
                <a:solidFill>
                  <a:srgbClr val="ff0000"/>
                </a:solidFill>
                <a:latin typeface="Comic Sans MS"/>
              </a:rPr>
              <a:t>went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um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ca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da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g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404640"/>
            <a:ext cx="8229600" cy="593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up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look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o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lik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ig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going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r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h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for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6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7800" spc="-1" strike="noStrike">
                <a:solidFill>
                  <a:srgbClr val="ff0000"/>
                </a:solidFill>
                <a:latin typeface="Comic Sans MS"/>
              </a:rPr>
              <a:t>here</a:t>
            </a:r>
            <a:endParaRPr b="0" lang="en-US" sz="2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ai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a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ut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made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you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come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pla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6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7800" spc="-1" strike="noStrike">
                <a:solidFill>
                  <a:srgbClr val="ff0000"/>
                </a:solidFill>
                <a:latin typeface="Comic Sans MS"/>
              </a:rPr>
              <a:t>have</a:t>
            </a:r>
            <a:endParaRPr b="0" lang="en-US" sz="2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of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a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aw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e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ll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home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a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8:38:51Z</dcterms:created>
  <dc:creator>Katie Goodridge</dc:creator>
  <dc:description/>
  <dc:language>en-US</dc:language>
  <cp:lastModifiedBy>Wendy Dorothy</cp:lastModifiedBy>
  <dcterms:modified xsi:type="dcterms:W3CDTF">2011-09-26T23:16:59Z</dcterms:modified>
  <cp:revision>15</cp:revision>
  <dc:subject/>
  <dc:title>Word Rumble</dc:title>
</cp:coreProperties>
</file>